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74520" cy="124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6084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62640" cy="40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86080" y="720720"/>
            <a:ext cx="7967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99640" y="1439640"/>
            <a:ext cx="8595000" cy="248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899640" y="4162680"/>
            <a:ext cx="8595000" cy="248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86080" y="720720"/>
            <a:ext cx="7967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99640" y="1439640"/>
            <a:ext cx="4194000" cy="248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03880" y="1439640"/>
            <a:ext cx="4194000" cy="248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99640" y="4162680"/>
            <a:ext cx="4194000" cy="248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303880" y="4162680"/>
            <a:ext cx="4194000" cy="248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86080" y="720720"/>
            <a:ext cx="7967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99640" y="1439640"/>
            <a:ext cx="2767320" cy="248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05560" y="1439640"/>
            <a:ext cx="2767320" cy="248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711840" y="1439640"/>
            <a:ext cx="2767320" cy="248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899640" y="4162680"/>
            <a:ext cx="2767320" cy="248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805560" y="4162680"/>
            <a:ext cx="2767320" cy="248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711840" y="4162680"/>
            <a:ext cx="2767320" cy="248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86080" y="720720"/>
            <a:ext cx="7967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899640" y="1439640"/>
            <a:ext cx="8595000" cy="52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86080" y="720720"/>
            <a:ext cx="7967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99640" y="1439640"/>
            <a:ext cx="8595000" cy="52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86080" y="720720"/>
            <a:ext cx="7967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99640" y="1439640"/>
            <a:ext cx="4194000" cy="52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303880" y="1439640"/>
            <a:ext cx="4194000" cy="52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86080" y="720720"/>
            <a:ext cx="7967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486080" y="720720"/>
            <a:ext cx="79675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86080" y="720720"/>
            <a:ext cx="7967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99640" y="1439640"/>
            <a:ext cx="4194000" cy="248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303880" y="1439640"/>
            <a:ext cx="4194000" cy="52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899640" y="4162680"/>
            <a:ext cx="4194000" cy="248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486080" y="720720"/>
            <a:ext cx="7967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899640" y="1439640"/>
            <a:ext cx="8595000" cy="52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86080" y="720720"/>
            <a:ext cx="7967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99640" y="1439640"/>
            <a:ext cx="4194000" cy="52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303880" y="1439640"/>
            <a:ext cx="4194000" cy="248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303880" y="4162680"/>
            <a:ext cx="4194000" cy="248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86080" y="720720"/>
            <a:ext cx="7967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99640" y="1439640"/>
            <a:ext cx="4194000" cy="248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303880" y="1439640"/>
            <a:ext cx="4194000" cy="248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99640" y="4162680"/>
            <a:ext cx="8595000" cy="248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86080" y="720720"/>
            <a:ext cx="7967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99640" y="1439640"/>
            <a:ext cx="8595000" cy="248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899640" y="4162680"/>
            <a:ext cx="8595000" cy="248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86080" y="720720"/>
            <a:ext cx="7967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99640" y="1439640"/>
            <a:ext cx="4194000" cy="248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03880" y="1439640"/>
            <a:ext cx="4194000" cy="248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99640" y="4162680"/>
            <a:ext cx="4194000" cy="248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303880" y="4162680"/>
            <a:ext cx="4194000" cy="248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86080" y="720720"/>
            <a:ext cx="7967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99640" y="1439640"/>
            <a:ext cx="2767320" cy="248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05560" y="1439640"/>
            <a:ext cx="2767320" cy="248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711840" y="1439640"/>
            <a:ext cx="2767320" cy="248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899640" y="4162680"/>
            <a:ext cx="2767320" cy="248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05560" y="4162680"/>
            <a:ext cx="2767320" cy="248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711840" y="4162680"/>
            <a:ext cx="2767320" cy="248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86080" y="720720"/>
            <a:ext cx="7967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99640" y="1439640"/>
            <a:ext cx="8595000" cy="52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86080" y="720720"/>
            <a:ext cx="7967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99640" y="1439640"/>
            <a:ext cx="4194000" cy="52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303880" y="1439640"/>
            <a:ext cx="4194000" cy="52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86080" y="720720"/>
            <a:ext cx="7967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486080" y="720720"/>
            <a:ext cx="79675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86080" y="720720"/>
            <a:ext cx="7967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99640" y="1439640"/>
            <a:ext cx="4194000" cy="248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303880" y="1439640"/>
            <a:ext cx="4194000" cy="52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899640" y="4162680"/>
            <a:ext cx="4194000" cy="248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86080" y="720720"/>
            <a:ext cx="7967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99640" y="1439640"/>
            <a:ext cx="4194000" cy="52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303880" y="1439640"/>
            <a:ext cx="4194000" cy="248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303880" y="4162680"/>
            <a:ext cx="4194000" cy="248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86080" y="720720"/>
            <a:ext cx="7967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99640" y="1439640"/>
            <a:ext cx="4194000" cy="248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303880" y="1439640"/>
            <a:ext cx="4194000" cy="248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99640" y="4162680"/>
            <a:ext cx="8595000" cy="248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899640" y="1439640"/>
            <a:ext cx="8595000" cy="52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i="1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i="1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i="1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"/>
          <p:cNvSpPr/>
          <p:nvPr/>
        </p:nvSpPr>
        <p:spPr>
          <a:xfrm>
            <a:off x="0" y="765000"/>
            <a:ext cx="9906120" cy="503280"/>
          </a:xfrm>
          <a:prstGeom prst="rect">
            <a:avLst/>
          </a:prstGeom>
          <a:solidFill>
            <a:srgbClr val="2fd1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36360" y="44280"/>
            <a:ext cx="1484640" cy="1484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486080" y="720720"/>
            <a:ext cx="7967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1190520" y="861840"/>
            <a:ext cx="61340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539280" y="2172960"/>
            <a:ext cx="8890200" cy="32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i="1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i="1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i="1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 algn="ctr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 algn="ctr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 algn="ctr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1440" y="657360"/>
            <a:ext cx="9906120" cy="1214280"/>
          </a:xfrm>
          <a:prstGeom prst="rect">
            <a:avLst/>
          </a:prstGeom>
          <a:solidFill>
            <a:srgbClr val="2fd1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1266480" y="646200"/>
            <a:ext cx="7970760" cy="122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457440" y="5067360"/>
            <a:ext cx="2122560" cy="1592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inf.ufes.br/~mberger" TargetMode="External"/><Relationship Id="rId2" Type="http://schemas.openxmlformats.org/officeDocument/2006/relationships/hyperlink" Target="mailto:mberger@inf.ufes.br" TargetMode="External"/><Relationship Id="rId3" Type="http://schemas.openxmlformats.org/officeDocument/2006/relationships/hyperlink" Target="mailto:mariellaberger@gmail.com" TargetMode="External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942840" y="888840"/>
            <a:ext cx="79963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Calibri"/>
                <a:ea typeface="Times New Roman"/>
              </a:rPr>
              <a:t>Título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23880" y="2340000"/>
            <a:ext cx="68580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SUBTÍTULO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Prof. Dr. Nome do Autor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 u="sng">
                <a:solidFill>
                  <a:srgbClr val="ccccff"/>
                </a:solidFill>
                <a:uFillTx/>
                <a:latin typeface="Calibri"/>
                <a:ea typeface="Times New Roman"/>
                <a:hlinkClick r:id="rId1"/>
              </a:rPr>
              <a:t>http://www.inf.ufes.br/~mberger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 u="sng">
                <a:solidFill>
                  <a:srgbClr val="ccccff"/>
                </a:solidFill>
                <a:uFillTx/>
                <a:latin typeface="Calibri"/>
                <a:ea typeface="Times New Roman"/>
                <a:hlinkClick r:id="rId2"/>
              </a:rPr>
              <a:t>mberger@inf.ufes.br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 u="sng">
                <a:solidFill>
                  <a:srgbClr val="ccccff"/>
                </a:solidFill>
                <a:uFillTx/>
                <a:latin typeface="Calibri"/>
                <a:ea typeface="Times New Roman"/>
                <a:hlinkClick r:id="rId3"/>
              </a:rPr>
              <a:t>mariellaberger@gmail.com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86080" y="718920"/>
            <a:ext cx="7968960" cy="5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99640" y="1439640"/>
            <a:ext cx="859644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Calibri"/>
              </a:rPr>
              <a:t>Teste</a:t>
            </a:r>
            <a:endParaRPr b="0" i="1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Calibri"/>
              </a:rPr>
              <a:t>Teste 2</a:t>
            </a:r>
            <a:endParaRPr b="0" i="1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Calibri"/>
              </a:rPr>
              <a:t>Teste 3</a:t>
            </a:r>
            <a:endParaRPr b="0" i="1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Calibri"/>
              </a:rPr>
              <a:t>Teste 4</a:t>
            </a:r>
            <a:endParaRPr b="0" i="1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Calibri"/>
              </a:rPr>
              <a:t>Teste 5</a:t>
            </a:r>
            <a:endParaRPr b="0" i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4T14:24:10Z</dcterms:created>
  <dc:creator>Lucio</dc:creator>
  <dc:description/>
  <dc:language>en-US</dc:language>
  <cp:lastModifiedBy>Mariella Berger</cp:lastModifiedBy>
  <dcterms:modified xsi:type="dcterms:W3CDTF">2011-03-22T13:43:35Z</dcterms:modified>
  <cp:revision>49</cp:revision>
  <dc:subject/>
  <dc:title>Noções de Algoritmos </dc:title>
</cp:coreProperties>
</file>